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2845B-03A4-47E7-A65C-B16BCC7FC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BA799-C3A9-4F5C-AA17-627DDEC0AE80}" type="slidenum">
              <a:rPr b="0" lang="en-US" sz="13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3FB-F86F-4B3F-BFE8-20811295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F03-805D-467A-BEA0-B4E98E8D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489-A438-40D5-A13B-4129E6DA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4F2-8E8B-4014-A7C5-7A5105CB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E94-A8C8-41EE-90F6-ABBB668F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CFA-19AB-455A-A362-0CA52F41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759-D0A8-45E1-BF77-66F776A7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1E8-F06D-4823-9234-99662705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0D5-A5B6-4AD3-9E27-C0FFB7CC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61D-BB63-4665-B194-FCD08BB7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F9B-ACC4-462C-A7EC-4F522665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390-AE28-4423-9EEF-9EA2ECC0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E023-C177-4B3A-ABEE-969665179931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89960"/>
            <a:ext cx="68580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IQ" sz="9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0" name="Picture 4" descr="G:\New folder (3)\WhatsApp Images\IMG-20180513-WA0087.jpg"/>
          <p:cNvPicPr/>
          <p:nvPr/>
        </p:nvPicPr>
        <p:blipFill>
          <a:blip r:embed="rId1"/>
          <a:stretch/>
        </p:blipFill>
        <p:spPr>
          <a:xfrm>
            <a:off x="1770120" y="117360"/>
            <a:ext cx="5373720" cy="64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8" name="Picture 2" descr="Histologic section of syringoma demonstrates numer"/>
          <p:cNvPicPr/>
          <p:nvPr/>
        </p:nvPicPr>
        <p:blipFill>
          <a:blip r:embed="rId1"/>
          <a:stretch/>
        </p:blipFill>
        <p:spPr>
          <a:xfrm>
            <a:off x="262080" y="309600"/>
            <a:ext cx="868680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0" name="Picture 2" descr="https://upload.wikimedia.org/wikipedia/commons/8/8e/Frog_spawn_time-lapse.gif"/>
          <p:cNvPicPr/>
          <p:nvPr/>
        </p:nvPicPr>
        <p:blipFill>
          <a:blip r:embed="rId1"/>
          <a:stretch/>
        </p:blipFill>
        <p:spPr>
          <a:xfrm>
            <a:off x="195120" y="163440"/>
            <a:ext cx="878544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2" name="Picture 2" descr="https://upload.wikimedia.org/wikipedia/commons/thumb/6/60/Kaulquappen_Tadpole_3.JPG/1024px-Kaulquappen_Tadpole_3.JPG"/>
          <p:cNvPicPr/>
          <p:nvPr/>
        </p:nvPicPr>
        <p:blipFill>
          <a:blip r:embed="rId1"/>
          <a:stretch/>
        </p:blipFill>
        <p:spPr>
          <a:xfrm>
            <a:off x="114480" y="228600"/>
            <a:ext cx="888192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4" name="Picture 5" descr="نتيجة بحث الصور عن ‪foam cells‬‏"/>
          <p:cNvPicPr/>
          <p:nvPr/>
        </p:nvPicPr>
        <p:blipFill>
          <a:blip r:embed="rId1"/>
          <a:stretch/>
        </p:blipFill>
        <p:spPr>
          <a:xfrm>
            <a:off x="522360" y="609480"/>
            <a:ext cx="819792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6" name="Picture 2" descr="صورة ذات صلة"/>
          <p:cNvPicPr/>
          <p:nvPr/>
        </p:nvPicPr>
        <p:blipFill>
          <a:blip r:embed="rId1"/>
          <a:stretch/>
        </p:blipFill>
        <p:spPr>
          <a:xfrm>
            <a:off x="685800" y="1044720"/>
            <a:ext cx="66294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Dermatopathology</a:t>
            </a:r>
            <a:endParaRPr b="0" lang="en-US" sz="67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65ff"/>
                </a:solidFill>
                <a:latin typeface="Bahnschrift SemiLight"/>
                <a:ea typeface="굴림"/>
              </a:rPr>
              <a:t>Assistant Prof.</a:t>
            </a:r>
            <a:br>
              <a:rPr sz="2800"/>
            </a:br>
            <a:r>
              <a:rPr b="1" lang="en-US" sz="2800" spc="-1" strike="noStrike">
                <a:solidFill>
                  <a:srgbClr val="1b65ff"/>
                </a:solidFill>
                <a:latin typeface="Bahnschrift SemiLight"/>
                <a:ea typeface="굴림"/>
              </a:rPr>
              <a:t>Dr.Ahmed Abdul-Aziz Ahmed</a:t>
            </a:r>
            <a:br>
              <a:rPr sz="2800"/>
            </a:br>
            <a:r>
              <a:rPr b="1" lang="en-US" sz="2800" spc="-1" strike="noStrike">
                <a:solidFill>
                  <a:srgbClr val="1b65ff"/>
                </a:solidFill>
                <a:latin typeface="Bahnschrift SemiLight"/>
                <a:ea typeface="굴림"/>
              </a:rPr>
              <a:t>F. I.B.M.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4" name="Picture 2" descr="http://syringomaremoval.com/wp-content/uploads/2014/05/syringoma-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2" name="Picture 2" descr="http://www.pathologyoutlines.com/images/skintumorsyringom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163440" y="228600"/>
            <a:ext cx="87519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5:21:08Z</dcterms:created>
  <dc:creator>David Mortimer</dc:creator>
  <dc:description/>
  <dc:language>en-US</dc:language>
  <cp:lastModifiedBy>Windows User</cp:lastModifiedBy>
  <dcterms:modified xsi:type="dcterms:W3CDTF">2018-09-25T18:48:41Z</dcterms:modified>
  <cp:revision>427</cp:revision>
  <dc:subject/>
  <dc:title>No Slide Title</dc:title>
</cp:coreProperties>
</file>